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FB91-BA21-4731-95C9-411ACC308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0DA1-3821-4A52-B009-DCF0C6CE7B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B922-9C6A-4411-B847-94C9514DB8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F4DA-D14F-4889-BCEA-22BAD12649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6CD1-5D01-4872-A7C7-5B7096BD3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F336-EC43-4D2F-A1DC-03CE174454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BA2F-62BB-4C06-BBB7-FF2D7189C9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CCAF-74A8-40D6-92DF-8172D876A5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9183-EEAA-48E2-BADA-1B33808946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B78-06A7-4744-8F78-0EA53A52FC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944-06B2-4E97-981F-EF06493A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69B-35DD-41BA-BB4B-4EBC35A5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72E-2C29-482A-8945-32731338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64E-B466-4311-A5A7-BF5F6FE6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9340-02E5-4171-8C7B-39626B88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F17A-771D-4D32-B414-8EAF2F88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84CA-B18A-4D70-A8BD-98E99AD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3C92-57A8-430B-9F4D-11F5985C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8C11-2A4D-4171-AADB-F101B699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DDF7-230E-4B34-94E1-5C5211E5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484A-83F7-4EF5-BCDB-25398D7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C58-7D49-4CC0-B348-A313807E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55E7-A137-49D5-A952-113194D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3CA2-8D42-4E2D-9EC8-829E7D8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5D86-9D7C-4A69-BCEB-E07C0BD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0064-3EF1-4802-9D14-55DC0B3B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4FF-2406-48E1-AA74-9E9FE574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3BEF-51DB-46E6-BFE2-CA16EB0E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8AC4-EB94-4DDC-8389-491C8156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F262-3377-49EA-B872-1CFBA843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543E-9BA7-46B4-8BB3-8C56B240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27E2-3B69-4DD7-98F2-17531D19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314-21DA-485F-B4BB-00E66111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A57E-30C9-4432-9EF4-CE629058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5B15-07C8-4B87-8F63-7CBC693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914B-9081-4D1A-9996-7261FB79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F652-90C2-4F5F-B8F1-B32BF37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BC27-61FB-4DAD-9391-CB91FE26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8664-876C-46F8-8AAB-685C7D28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E504-5F33-461A-9D83-9E0740FC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C4390-467F-48A3-A64C-CD994638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6627-BBB3-4A12-9ED4-ED26EFD9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CC51C-A2A2-45EE-880A-BAE4BA2B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DBC-F464-4B06-80AA-5479C8AB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EA7E-C0A9-4FC1-86F7-A093ADBE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E26A-73FA-4B59-9CA2-D2BC843B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EB0B-2E5B-4540-BD78-908E38B4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BEC7F-28C1-4A30-9AAE-59C2C5D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AEAB-BF89-4F01-8135-B6C72EA0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783F-169D-4D4D-A9A3-99041F4F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6207-F8B5-4041-940A-DC706D87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9FA4-1C01-40CB-BEF1-2A3602AC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7BCD-B37F-498B-9A4D-CCB54D49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1D3D6-E0BA-4C5B-8909-3F6A8B08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BF9-6B65-4C08-8D50-BFE0CC86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5A46-3DF2-4627-91F3-550DA8CA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810C-9920-4A28-AC33-435C189C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21754-3986-4A4E-A09A-6E047D2F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43FD2-3A62-411C-956C-2AE02BA0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8396-D4AF-442A-A0E9-8CD2A059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53D0B-E911-4A92-9067-9195B31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A057-082C-4604-B750-A036A11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8759-CEFE-4B19-9417-028A7371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1A5A-096A-4C8D-B133-A372624E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F1E9E-A9E1-41F4-A4C5-FEA9446A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B4B-46A2-4ADA-9AB6-A52CFBAF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9401-5A50-4B7D-BA72-01D86C63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B69-C04D-410F-BA20-8F2B83E3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664-823A-49DE-8D42-5403CDF1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E5B-E0AF-4474-BA19-E99C60F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irelight content.png"/>
          <p:cNvPicPr/>
          <p:nvPr/>
        </p:nvPicPr>
        <p:blipFill>
          <a:blip r:embed="rId2"/>
          <a:srcRect l="10261" t="11519" r="6261" b="8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B0B1-8B1D-47C9-B7E0-76F085B920B4}" type="slidenum">
              <a:rPr b="0" lang="en-US" sz="11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irelight title.png"/>
          <p:cNvPicPr/>
          <p:nvPr/>
        </p:nvPicPr>
        <p:blipFill>
          <a:blip r:embed="rId2"/>
          <a:srcRect l="43434" t="21353" r="0" b="20415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59432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28600" y="57146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E7F-8167-401E-8ECA-AE39509EA875}" type="slidenum">
              <a:rPr b="0" lang="en-US" sz="11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Firelight section.png"/>
          <p:cNvPicPr/>
          <p:nvPr/>
        </p:nvPicPr>
        <p:blipFill>
          <a:blip r:embed="rId2"/>
          <a:srcRect l="7677" t="0" r="8564" b="31687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435F-6F6C-48DF-9682-74DDD5C756A1}" type="slidenum">
              <a:rPr b="0" lang="en-US" sz="11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96C-E221-4DBE-AFBA-3D80969870D3}" type="slidenum">
              <a:rPr b="0" lang="en-US" sz="11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5CAA-14AC-4D01-AA01-9A17D948BD2A}" type="slidenum"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1504800" y="1212840"/>
            <a:ext cx="6658200" cy="161604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3" descr=""/>
          <p:cNvPicPr/>
          <p:nvPr/>
        </p:nvPicPr>
        <p:blipFill>
          <a:blip r:embed="rId2"/>
          <a:stretch/>
        </p:blipFill>
        <p:spPr>
          <a:xfrm>
            <a:off x="2382840" y="2938320"/>
            <a:ext cx="57801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1676520" y="-55440"/>
            <a:ext cx="5864040" cy="181764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418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835200" y="268200"/>
            <a:ext cx="8315280" cy="164628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2"/>
          <a:stretch/>
        </p:blipFill>
        <p:spPr>
          <a:xfrm>
            <a:off x="835200" y="1951200"/>
            <a:ext cx="8424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798480" y="268200"/>
            <a:ext cx="8461440" cy="16462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3" descr=""/>
          <p:cNvPicPr/>
          <p:nvPr/>
        </p:nvPicPr>
        <p:blipFill>
          <a:blip r:embed="rId2"/>
          <a:stretch/>
        </p:blipFill>
        <p:spPr>
          <a:xfrm>
            <a:off x="835200" y="1951200"/>
            <a:ext cx="83152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899560" cy="217656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3" descr=""/>
          <p:cNvPicPr/>
          <p:nvPr/>
        </p:nvPicPr>
        <p:blipFill>
          <a:blip r:embed="rId2"/>
          <a:stretch/>
        </p:blipFill>
        <p:spPr>
          <a:xfrm>
            <a:off x="755640" y="1957320"/>
            <a:ext cx="8443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657440" y="268200"/>
            <a:ext cx="5902200" cy="149400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12136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1725480" y="122400"/>
            <a:ext cx="5693040" cy="163980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418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3" descr=""/>
          <p:cNvPicPr/>
          <p:nvPr/>
        </p:nvPicPr>
        <p:blipFill>
          <a:blip r:embed="rId2"/>
          <a:stretch/>
        </p:blipFill>
        <p:spPr>
          <a:xfrm>
            <a:off x="1994040" y="1920960"/>
            <a:ext cx="5101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1719360" y="122400"/>
            <a:ext cx="5808600" cy="163980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720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6:02:51Z</dcterms:created>
  <dc:creator>nuhs</dc:creator>
  <dc:description/>
  <dc:language>en-US</dc:language>
  <cp:lastModifiedBy>Ameena</cp:lastModifiedBy>
  <dcterms:modified xsi:type="dcterms:W3CDTF">2008-10-27T21:24:32Z</dcterms:modified>
  <cp:revision>9</cp:revision>
  <dc:subject/>
  <dc:title>Chapter 8 and 14 Review</dc:title>
</cp:coreProperties>
</file>